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1.jpeg" ContentType="image/jpeg"/>
  <Override PartName="/ppt/media/image9.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0.jpeg" ContentType="image/jpeg"/>
  <Override PartName="/ppt/media/image8.jpeg" ContentType="image/jpeg"/>
  <Override PartName="/ppt/media/image6.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CFA2-CAAE-41B2-94A9-E9B83EB0AA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elds, while wonderful things, are not fields of green like we see her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elds are the most basic element of a MARC record.</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MARC standards were being devised over 44 years ago in 1965 - some pretty smart computer scientists were devising how to talk to computers.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elds do not have any intrinsic value - instead librarians decided certain fields would mean certain things and those agreements became known as MARC Cataloging.  These standards are constantly updated but the major fields largely remain the same.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 records are a collection of "Fields" - these are basically broad categories that the computer uses to separate informatio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we run different searches in an OPAC, a "keyword" search will search all of the fields while an author search will only search the field you see here - this is the 100 field also known as author or "main entry". Which we will discuss nex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record in an OPAC has what is called a main entry poin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primary way that an OPAC can find a record.  In most cases, it is the author in this field known as the 100 field or primary author.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some cases such as a work with no author or edited works this field may be skipped in favor of the 245 field which is the Title in which case the Title of the work becomes the Main Entry.</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this practically means is that when you run a search for an author or title you are actually limiting the search to one particular field of a record.  This is a great way to narrow results so long as the input is correct in both the record and the search being requested.</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elds that are not main entry or added entry fields are not searched by default in most OPACs and keyword searches may or may not search other particular field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why quality cataloging is important - a good record will make results come back quicker, with higher accuracy, and less uncertainty.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MARC record has what are known as access points - these are all located in the 1XX and 7XX fields and sometimes 245 (Title) will function as a main entry in the absence of a 1XX field.</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ones that we as librarians need to be most aware of are a) Author b) Title and c) Subject Headings - in that order.</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ed entries are functionally as effective as the main entry but the main entry tells us more about who is responsible for the work.</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 title as the main entry tells us we are lacking information about the author which if you put the author as an added entry would still turn up the record if you ran a search except if you limited it to the author field, and could mislead a viewer as to what the work is or who is responsible for it.</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RC record is actually a combination of several different authorities combining different rules to come up with a standardized system so that computers can cross-communicate and also return better results when these databases are searched.</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we've been looking at is a MARC record - the most recent standard for the organization of these records is called MARC21 - however there have been other incarnations including USMARC and UniMARC - you don't need to know the differences between these but know that MARC21 is the accepted standard today and that the rules for it are frequently updated though not in ways most of us need to be aware of.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defines what the actual organization of the computer record looks lik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CR2 stands for Anglo American Cataloging Rules 2 - a revised edition that is also constantly updated.  AACR2 is actually a huge binder which I didn't lug in today nor do you really need to have to do most cataloging.</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get an abridged edition of it, but what AACR2 does is establish the standards for what actually goes into the MARC record fields and also determines the access points used by computers.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 if MARC is a computer standard for a record that establishes how computers will access data, AACR2 covers what actually goes into which fields in what format and how that information will be accessed.</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a little more intricate than that but functionally that understanding will work for understanding a MARC record.</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a number of years, the NYC shared catalog was open for all librarians to catalog in.  This created issues however.</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 can spot what the issues are in this imag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Effectively, what is this system supposed to do?</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 "stuff" and when you have people all doing their own cataloging you end up with many subject headings that DON'T GO ANYWHER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 sure some of you might have noticed something very important about this image - that little 1 in brackets?  That means that only one record is connected to that heading.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se were "real" headings that might be ok since something might come along and connect to them.  But when people make up their own, spelling, grammar, and numerical numbering included - the likelihood of headings being reused when something is cataloged later is virtually nil especially if we're relying on cataloging from jobbers (which we should evaluate to fit best into our collection).</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next 2 key terms are the Library of Congress and Dewey Decimal Numbers.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ll know Dewey Decimal Numbers are critical.  We also need to know its importance in the MARC record as it is included in the 082 Field.</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wey numbers are the classification numbers that physically arrange our library in a certain way - theoretically every book should have a spine label that reflects its exact position in the library.  Practically this isn't always possible but it is the idea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should also know that most original cataloging comes from the Library of Congress and is included on the verso of most books (that page opposite the title page) - see the area where the copyright information is on any book - and the information on that page is known as the CIP or Copy in Prin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rary of Congress has its own physical classification known as the Library of Congress system which is suited for very large libraries - that's all you need to know though.</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school libraries, Dewey is definitely the more sensible choice for a variety of reasons but be aware that it's not the only system available and that classification of books follows both the rules of a system and the needs of a library and knowing the system lets you know how to make it flexible to your need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ystem is governed by the DDC22 which is the 22nd edition of the Dewey Decimal Classification Tables.  Library of Congress has a similar governing document.  </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relationship between MARC and all of these </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learn to catalog is a very difficult and time consuming process.  It can take months to learn to do basic cataloging and more advanced requires a lot of experience as well as additional training.</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I could teach people to catalog in an hour:</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A) Librarians wouldn't have job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It would be nothing short of a miracle.</a:t>
            </a: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 editor like MARC Magician or in Follett Destiny (see next slid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 me scare the living daylights out of everyone here by saying MARC records are highly technical and for those of us who have worked in other libraries are usually placed in a wing called Technical Service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the nuts and bolts of our OPAC systems and they are what make the systems we use, usefu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PAC is what allows us to pull in information from all over our library so we not only find the main subject area books, but the books in related areas, or that might contain pieces of information we need even though it may not have a focus on our subject.</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 is an acronym that stands for Machine Readable Cataloging.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we work in an OPAC like Destiny, or Mandarin, or Winnebago (all brands of OPACs among over a dozen major brands used by many types of libraries) we are actually looking at recorded information about an item whether it be a book, digital file, website, or multimedia item.</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C record is the raw information we give the computer which it then uses software to render into something like our next slid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a view of a MARC Record that is being interpreted by the computer to show us the information in a user friendly forma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e MARC view tab in the upper right corner - sometimes there is information in the MARC record that isn't conspicuous in the user viewable record - if something isn't being rendered correctly then the MARC record is where we need to look to make the chang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job as librarians is to provide independence to students so they can learn to perform research autonomously and to make access to information quick and easy.</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PAC is a strong tool to develop that skill and expose students to both literature and information literacy skill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omic makes a comment that is satirical in nature but defines the essence of what our cataloging does - a good catalog makes all the information in our library accessible including ideally databases and websites applicable to our subject area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fields in a MARC record are not filled out according to standards, the end result is a tool that frustrates rather than enhances search efforts and will teach students that libraries are ultimately not good tools and can't be relied on.  That would be a shame for both our schools and society.</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has shown time and again that a good school library enhances instruction and that libraries are a great value for a community.  We need to teach our students how to be independent researchers and the OPAC is vital to the library providing the access to information our patrons need.</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ight our work with regards to the OPAC connect with other librarie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of what we do is teach students skills that will serve them well beyond our schoo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of our goal is to align our catalogs with the catalogs they will use in college and beyond so that their experience will not be isolated to our own library.</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rther, if they use our catalogs and they have terrible cataloging - what is going to happen in the futur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they going to turn to the tools of their library if their first experiences teach them those tools don't work?</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ute diagrams for this one - conceptually here's the deal though.  In order for our computer to check out a book, it needs 2 pieces of informatio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st, is when we're locating the book in our OPAC, that's the MARC bibliographic record (sometimes called a Title Record) and contains the information that we are dealing with today - it tells us the title, author, etc.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when it comes to check out a book, what you are actually accessing is the MARC Holding record.</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 sure a question for some of us might be - well why don't we just put the holding information into the bibliographic record and make it all accessibl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ason for the holding record is because we can have multiple copies of a book and we can also assign different call numbers to them as well - say if you wanted to place a copy in reference and one in circulation.  When we check a book out to a patron, we're associating that patron's record with that MARC Holding record - the Bibliographic record can't effectively keep copy information straight nor keep patron privacy.</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know that difference because when I started in cataloging for the city and even in my own OPAC I saw some atrocious cataloging.  I kid you not - my OPAC had 3000 hand-recorded bibliographic records with titles like Yu-Gi-Oh c.3 for copy 3 and NO holding record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sult was that the librarian before me could not check out books nor figure out why that was the case.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creating a record we need to have both bibliographic AND holding information to make our OPACs effective - otherwise I could put a bibliographic title in my system sure - but without a holding record it will turn up in a search but I won't have a DDC number to go to and it might not even be in my library - that's frustrating!</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ing this format also makes it so that when we run a search we end up with one copy of each individual title which is what draws us immediately before we concern ourselves with copies - with many duplicated title records if you have 3 copies of one book they would show up as 3 separate results and because a database goes based on unique identifiers for a record would create massive problems internally.</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relationship between MARC Bibliographic and MARC Holding at its simplest leve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F2AA6-7549-4FCA-8B3A-9101EA011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59FDD-96A9-4A77-B50E-A3C447DC7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E56C8-1694-4D34-A25F-A36F90D07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A8C29-A7B0-48B7-B4D0-C5B9A7336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2C2F2-2D78-4672-9142-4CDF2B694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C758C-1E27-4785-A3C2-95270E51C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857FE-8DFA-4321-AFDF-4D657C15C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687BE-DE22-4A55-B299-D2C75575B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615C3-56D1-4ADE-A4DC-8BF7A590D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ABE4A-57FE-4C12-8BE9-7D647C5B6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7FD85-4CEA-40A2-B31F-75AAA3AC9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02DD9-FE1E-475A-BA5F-6276FA4EA9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E31D-0748-41E8-B7FB-0C7022AD9B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55720" y="1711440"/>
            <a:ext cx="8448480" cy="14428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RC21 Cataloging: By The Numbers</a:t>
            </a:r>
            <a:endParaRPr b="0" lang="en-US" sz="4800" spc="-1" strike="noStrike">
              <a:solidFill>
                <a:srgbClr val="000000"/>
              </a:solidFill>
              <a:latin typeface="Times New Roman"/>
            </a:endParaRPr>
          </a:p>
        </p:txBody>
      </p:sp>
      <p:sp>
        <p:nvSpPr>
          <p:cNvPr id="49" name="PlaceHolder 2"/>
          <p:cNvSpPr>
            <a:spLocks noGrp="1"/>
          </p:cNvSpPr>
          <p:nvPr>
            <p:ph type="subTitle"/>
          </p:nvPr>
        </p:nvSpPr>
        <p:spPr>
          <a:xfrm>
            <a:off x="1668240" y="3539880"/>
            <a:ext cx="6621480" cy="23684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How Do I Communicate with an OPAC?</a:t>
            </a: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54160" y="310680"/>
            <a:ext cx="9672480" cy="1249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Fields Are Not...</a:t>
            </a:r>
            <a:endParaRPr b="0" lang="en-US" sz="4300" spc="-1" strike="noStrike">
              <a:solidFill>
                <a:srgbClr val="000000"/>
              </a:solidFill>
              <a:latin typeface="Times New Roman"/>
            </a:endParaRPr>
          </a:p>
        </p:txBody>
      </p:sp>
      <p:sp>
        <p:nvSpPr>
          <p:cNvPr id="72" name=""/>
          <p:cNvSpPr/>
          <p:nvPr/>
        </p:nvSpPr>
        <p:spPr>
          <a:xfrm>
            <a:off x="1763640" y="6889680"/>
            <a:ext cx="7002360" cy="7815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mage from Flickr.com - User Ducatirider - 10-20-2009</a:t>
            </a:r>
            <a:endParaRPr b="0" lang="en-US" sz="2700" spc="-1" strike="noStrike">
              <a:solidFill>
                <a:srgbClr val="000000"/>
              </a:solidFill>
              <a:latin typeface="Times New Roman"/>
            </a:endParaRPr>
          </a:p>
        </p:txBody>
      </p:sp>
      <p:pic>
        <p:nvPicPr>
          <p:cNvPr id="73" name="" descr=""/>
          <p:cNvPicPr/>
          <p:nvPr/>
        </p:nvPicPr>
        <p:blipFill>
          <a:blip r:embed="rId1"/>
          <a:stretch/>
        </p:blipFill>
        <p:spPr>
          <a:xfrm>
            <a:off x="914400" y="1422360"/>
            <a:ext cx="8305920" cy="532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54160" y="310680"/>
            <a:ext cx="9672480" cy="9176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Field Tags &amp; Indicators...Oh My!</a:t>
            </a:r>
            <a:endParaRPr b="0" lang="en-US" sz="4300" spc="-1" strike="noStrike">
              <a:solidFill>
                <a:srgbClr val="000000"/>
              </a:solidFill>
              <a:latin typeface="Times New Roman"/>
            </a:endParaRPr>
          </a:p>
        </p:txBody>
      </p:sp>
      <p:pic>
        <p:nvPicPr>
          <p:cNvPr id="75" name="" descr=""/>
          <p:cNvPicPr/>
          <p:nvPr/>
        </p:nvPicPr>
        <p:blipFill>
          <a:blip r:embed="rId1"/>
          <a:stretch/>
        </p:blipFill>
        <p:spPr>
          <a:xfrm>
            <a:off x="2235240" y="3352680"/>
            <a:ext cx="7351560" cy="1694160"/>
          </a:xfrm>
          <a:prstGeom prst="rect">
            <a:avLst/>
          </a:prstGeom>
          <a:ln w="0">
            <a:noFill/>
          </a:ln>
        </p:spPr>
      </p:pic>
      <p:sp>
        <p:nvSpPr>
          <p:cNvPr id="76" name=""/>
          <p:cNvSpPr/>
          <p:nvPr/>
        </p:nvSpPr>
        <p:spPr>
          <a:xfrm flipV="1">
            <a:off x="2647800" y="2851200"/>
            <a:ext cx="925560" cy="882720"/>
          </a:xfrm>
          <a:custGeom>
            <a:avLst/>
            <a:gdLst/>
            <a:ahLst/>
            <a:rect l="l" t="t" r="r" b="b"/>
            <a:pathLst>
              <a:path w="22715" h="21600">
                <a:moveTo>
                  <a:pt x="6165" y="21600"/>
                </a:moveTo>
                <a:lnTo>
                  <a:pt x="6165" y="11173"/>
                </a:lnTo>
                <a:cubicBezTo>
                  <a:pt x="6165" y="11173"/>
                  <a:pt x="1031" y="11188"/>
                  <a:pt x="985" y="11173"/>
                </a:cubicBezTo>
                <a:cubicBezTo>
                  <a:pt x="0" y="11173"/>
                  <a:pt x="995" y="10190"/>
                  <a:pt x="995" y="10190"/>
                </a:cubicBezTo>
                <a:lnTo>
                  <a:pt x="11345" y="0"/>
                </a:lnTo>
                <a:cubicBezTo>
                  <a:pt x="11345" y="0"/>
                  <a:pt x="21669" y="10187"/>
                  <a:pt x="21691" y="10187"/>
                </a:cubicBezTo>
                <a:cubicBezTo>
                  <a:pt x="22715" y="11337"/>
                  <a:pt x="21705" y="11173"/>
                  <a:pt x="21705" y="11173"/>
                </a:cubicBezTo>
                <a:lnTo>
                  <a:pt x="16526" y="11173"/>
                </a:lnTo>
                <a:lnTo>
                  <a:pt x="16526" y="21600"/>
                </a:lnTo>
                <a:lnTo>
                  <a:pt x="6165" y="2160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584440" y="1523880"/>
            <a:ext cx="1108080" cy="1867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Field Tag</a:t>
            </a:r>
            <a:endParaRPr b="0" lang="en-US" sz="4300" spc="-1" strike="noStrike">
              <a:solidFill>
                <a:srgbClr val="000000"/>
              </a:solidFill>
              <a:latin typeface="Times New Roman"/>
            </a:endParaRPr>
          </a:p>
        </p:txBody>
      </p:sp>
      <p:sp>
        <p:nvSpPr>
          <p:cNvPr id="78" name=""/>
          <p:cNvSpPr/>
          <p:nvPr/>
        </p:nvSpPr>
        <p:spPr>
          <a:xfrm>
            <a:off x="3664080" y="4172040"/>
            <a:ext cx="257040" cy="1195200"/>
          </a:xfrm>
          <a:custGeom>
            <a:avLst/>
            <a:gdLst/>
            <a:ahLst/>
            <a:rect l="l" t="t" r="r" b="b"/>
            <a:pathLst>
              <a:path w="22715" h="21600">
                <a:moveTo>
                  <a:pt x="6165" y="21600"/>
                </a:moveTo>
                <a:lnTo>
                  <a:pt x="6165" y="11173"/>
                </a:lnTo>
                <a:cubicBezTo>
                  <a:pt x="6165" y="11173"/>
                  <a:pt x="1031" y="11188"/>
                  <a:pt x="985" y="11173"/>
                </a:cubicBezTo>
                <a:cubicBezTo>
                  <a:pt x="0" y="11173"/>
                  <a:pt x="995" y="10190"/>
                  <a:pt x="995" y="10190"/>
                </a:cubicBezTo>
                <a:lnTo>
                  <a:pt x="11345" y="0"/>
                </a:lnTo>
                <a:cubicBezTo>
                  <a:pt x="11345" y="0"/>
                  <a:pt x="21669" y="10187"/>
                  <a:pt x="21691" y="10187"/>
                </a:cubicBezTo>
                <a:cubicBezTo>
                  <a:pt x="22715" y="11337"/>
                  <a:pt x="21705" y="11173"/>
                  <a:pt x="21705" y="11173"/>
                </a:cubicBezTo>
                <a:lnTo>
                  <a:pt x="16526" y="11173"/>
                </a:lnTo>
                <a:lnTo>
                  <a:pt x="16526" y="21600"/>
                </a:lnTo>
                <a:lnTo>
                  <a:pt x="6165" y="2160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584440" y="5486400"/>
            <a:ext cx="2243160" cy="622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Indicator</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7680" y="6705360"/>
            <a:ext cx="9664560" cy="609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Entry</a:t>
            </a:r>
            <a:endParaRPr b="0" lang="en-US" sz="3200" spc="-1" strike="noStrike">
              <a:solidFill>
                <a:srgbClr val="000000"/>
              </a:solidFill>
              <a:latin typeface="Times New Roman"/>
            </a:endParaRPr>
          </a:p>
        </p:txBody>
      </p:sp>
      <p:pic>
        <p:nvPicPr>
          <p:cNvPr id="81" name="" descr=""/>
          <p:cNvPicPr/>
          <p:nvPr/>
        </p:nvPicPr>
        <p:blipFill>
          <a:blip r:embed="rId1"/>
          <a:stretch/>
        </p:blipFill>
        <p:spPr>
          <a:xfrm>
            <a:off x="11160" y="12600"/>
            <a:ext cx="10105920" cy="658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4160" y="310680"/>
            <a:ext cx="9671040" cy="1249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ccess Points Are Key</a:t>
            </a:r>
            <a:endParaRPr b="0" lang="en-US" sz="4300" spc="-1" strike="noStrike">
              <a:solidFill>
                <a:srgbClr val="000000"/>
              </a:solidFill>
              <a:latin typeface="Times New Roman"/>
            </a:endParaRPr>
          </a:p>
        </p:txBody>
      </p:sp>
      <p:pic>
        <p:nvPicPr>
          <p:cNvPr id="83" name="" descr=""/>
          <p:cNvPicPr/>
          <p:nvPr/>
        </p:nvPicPr>
        <p:blipFill>
          <a:blip r:embed="rId1"/>
          <a:stretch/>
        </p:blipFill>
        <p:spPr>
          <a:xfrm>
            <a:off x="4267080" y="1117440"/>
            <a:ext cx="4381560" cy="6313680"/>
          </a:xfrm>
          <a:prstGeom prst="rect">
            <a:avLst/>
          </a:prstGeom>
          <a:ln w="0">
            <a:noFill/>
          </a:ln>
        </p:spPr>
      </p:pic>
      <p:sp>
        <p:nvSpPr>
          <p:cNvPr id="84" name=""/>
          <p:cNvSpPr/>
          <p:nvPr/>
        </p:nvSpPr>
        <p:spPr>
          <a:xfrm>
            <a:off x="450720" y="5486400"/>
            <a:ext cx="2968920" cy="1953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mage downloaded from </a:t>
            </a:r>
            <a:r>
              <a:rPr b="0" lang="en-US" sz="2700" spc="-1" strike="noStrike" u="sng">
                <a:solidFill>
                  <a:srgbClr val="ccccff"/>
                </a:solidFill>
                <a:uFillTx/>
                <a:latin typeface="Arial"/>
              </a:rPr>
              <a:t>http://www.eftrends.com</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0-21-2009</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52000" y="309600"/>
            <a:ext cx="9674280" cy="1246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Where Does Cataloging Come From?</a:t>
            </a:r>
            <a:endParaRPr b="0" lang="en-US" sz="4300" spc="-1" strike="noStrike">
              <a:solidFill>
                <a:srgbClr val="000000"/>
              </a:solidFill>
              <a:latin typeface="Times New Roman"/>
            </a:endParaRPr>
          </a:p>
        </p:txBody>
      </p:sp>
      <p:sp>
        <p:nvSpPr>
          <p:cNvPr id="86" name="PlaceHolder 2"/>
          <p:cNvSpPr>
            <a:spLocks noGrp="1"/>
          </p:cNvSpPr>
          <p:nvPr>
            <p:ph/>
          </p:nvPr>
        </p:nvSpPr>
        <p:spPr>
          <a:xfrm>
            <a:off x="247680" y="1218960"/>
            <a:ext cx="9655200" cy="548316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KEY TERMS</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ial"/>
              </a:rPr>
              <a:t> </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RC21</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ACR2</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ibrary of Congress Classification (LoC)</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ibrary of Congress Subject Headings (LCSH)</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wey Decimal Classification (DDC22)</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ars Subject Headings (SSH)</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Why Not Create Cataloging Intuitively?</a:t>
            </a:r>
            <a:endParaRPr b="0" lang="en-US" sz="4300" spc="-1" strike="noStrike">
              <a:solidFill>
                <a:srgbClr val="000000"/>
              </a:solidFill>
              <a:latin typeface="Times New Roman"/>
            </a:endParaRPr>
          </a:p>
        </p:txBody>
      </p:sp>
      <p:pic>
        <p:nvPicPr>
          <p:cNvPr id="88" name="" descr=""/>
          <p:cNvPicPr/>
          <p:nvPr/>
        </p:nvPicPr>
        <p:blipFill>
          <a:blip r:embed="rId1"/>
          <a:stretch/>
        </p:blipFill>
        <p:spPr>
          <a:xfrm>
            <a:off x="1117440" y="1019160"/>
            <a:ext cx="7707600" cy="5888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52000" y="309600"/>
            <a:ext cx="9674280" cy="1246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How Do You Find Stuff in a Library?</a:t>
            </a:r>
            <a:endParaRPr b="0" lang="en-US" sz="4300" spc="-1" strike="noStrike">
              <a:solidFill>
                <a:srgbClr val="000000"/>
              </a:solidFill>
              <a:latin typeface="Times New Roman"/>
            </a:endParaRPr>
          </a:p>
        </p:txBody>
      </p:sp>
      <p:sp>
        <p:nvSpPr>
          <p:cNvPr id="90" name="PlaceHolder 2"/>
          <p:cNvSpPr>
            <a:spLocks noGrp="1"/>
          </p:cNvSpPr>
          <p:nvPr>
            <p:ph/>
          </p:nvPr>
        </p:nvSpPr>
        <p:spPr>
          <a:xfrm>
            <a:off x="1365120" y="6197760"/>
            <a:ext cx="6964560" cy="1108080"/>
          </a:xfrm>
          <a:prstGeom prst="rect">
            <a:avLst/>
          </a:prstGeom>
          <a:noFill/>
          <a:ln w="0">
            <a:noFill/>
          </a:ln>
        </p:spPr>
        <p:txBody>
          <a:bodyPr lIns="0" rIns="0" tIns="0" bIns="0" anchor="t">
            <a:normAutofit fontScale="94000"/>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mage downloaded from </a:t>
            </a:r>
            <a:r>
              <a:rPr b="0" lang="en-US" sz="2700" spc="-1" strike="noStrike" u="sng">
                <a:solidFill>
                  <a:srgbClr val="ccccff"/>
                </a:solidFill>
                <a:uFillTx/>
                <a:latin typeface="Arial"/>
              </a:rPr>
              <a:t>http://www.addledlibrarian.info/images/searchengine.jpg</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0-21-2009</a:t>
            </a:r>
            <a:endParaRPr b="0" lang="en-US" sz="2700" spc="-1" strike="noStrike">
              <a:solidFill>
                <a:srgbClr val="000000"/>
              </a:solidFill>
              <a:latin typeface="Times New Roman"/>
            </a:endParaRPr>
          </a:p>
        </p:txBody>
      </p:sp>
      <p:pic>
        <p:nvPicPr>
          <p:cNvPr id="91" name="" descr=""/>
          <p:cNvPicPr/>
          <p:nvPr/>
        </p:nvPicPr>
        <p:blipFill>
          <a:blip r:embed="rId1"/>
          <a:stretch/>
        </p:blipFill>
        <p:spPr>
          <a:xfrm>
            <a:off x="1422360" y="1219320"/>
            <a:ext cx="6921720" cy="4932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Subject Headings</a:t>
            </a:r>
            <a:endParaRPr b="0" lang="en-US" sz="4300" spc="-1" strike="noStrike">
              <a:solidFill>
                <a:srgbClr val="000000"/>
              </a:solidFill>
              <a:latin typeface="Times New Roman"/>
            </a:endParaRPr>
          </a:p>
        </p:txBody>
      </p:sp>
      <p:sp>
        <p:nvSpPr>
          <p:cNvPr id="93"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e Added Entries (Searchabl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trolled Vocabular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CSH or Sears Subject Headings (School Libraries generally use Sear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2000" y="309600"/>
            <a:ext cx="9674280" cy="1246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ake Away Point</a:t>
            </a:r>
            <a:endParaRPr b="0" lang="en-US" sz="4300" spc="-1" strike="noStrike">
              <a:solidFill>
                <a:srgbClr val="000000"/>
              </a:solidFill>
              <a:latin typeface="Times New Roman"/>
            </a:endParaRPr>
          </a:p>
        </p:txBody>
      </p:sp>
      <p:sp>
        <p:nvSpPr>
          <p:cNvPr id="95" name="PlaceHolder 2"/>
          <p:cNvSpPr>
            <a:spLocks noGrp="1"/>
          </p:cNvSpPr>
          <p:nvPr>
            <p:ph/>
          </p:nvPr>
        </p:nvSpPr>
        <p:spPr>
          <a:xfrm>
            <a:off x="246240" y="2058840"/>
            <a:ext cx="9586800" cy="350208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very aspect of a MARC record is controlled by an outside authority - DDC22, Sears Subject Headings, MARC21, AACR2 for most school librari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56800" y="2539800"/>
            <a:ext cx="8448840" cy="13618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 Authority Control = Ineffective OPAC</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242640" y="2536560"/>
            <a:ext cx="9504360" cy="254628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500" spc="-1" strike="noStrike">
                <a:solidFill>
                  <a:srgbClr val="000000"/>
                </a:solidFill>
                <a:latin typeface="Arial"/>
              </a:rPr>
              <a:t>We Will Not Teach You To Catalog</a:t>
            </a:r>
            <a:endParaRPr b="0" lang="en-US" sz="8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2000" y="309600"/>
            <a:ext cx="9674280" cy="1246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Copy Cataloging</a:t>
            </a:r>
            <a:endParaRPr b="0" lang="en-US" sz="4300" spc="-1" strike="noStrike">
              <a:solidFill>
                <a:srgbClr val="000000"/>
              </a:solidFill>
              <a:latin typeface="Times New Roman"/>
            </a:endParaRPr>
          </a:p>
        </p:txBody>
      </p:sp>
      <p:pic>
        <p:nvPicPr>
          <p:cNvPr id="98" name="" descr=""/>
          <p:cNvPicPr/>
          <p:nvPr/>
        </p:nvPicPr>
        <p:blipFill>
          <a:blip r:embed="rId1"/>
          <a:stretch/>
        </p:blipFill>
        <p:spPr>
          <a:xfrm>
            <a:off x="0" y="1301760"/>
            <a:ext cx="10131480" cy="6286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MARC Magician</a:t>
            </a:r>
            <a:endParaRPr b="0" lang="en-US" sz="4300" spc="-1" strike="noStrike">
              <a:solidFill>
                <a:srgbClr val="000000"/>
              </a:solidFill>
              <a:latin typeface="Times New Roman"/>
            </a:endParaRPr>
          </a:p>
        </p:txBody>
      </p:sp>
      <p:pic>
        <p:nvPicPr>
          <p:cNvPr id="100" name="" descr=""/>
          <p:cNvPicPr/>
          <p:nvPr/>
        </p:nvPicPr>
        <p:blipFill>
          <a:blip r:embed="rId1"/>
          <a:stretch/>
        </p:blipFill>
        <p:spPr>
          <a:xfrm>
            <a:off x="0" y="1050840"/>
            <a:ext cx="10183680" cy="652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6160" y="293400"/>
            <a:ext cx="9666360" cy="13064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Visual Interface</a:t>
            </a:r>
            <a:endParaRPr b="0" lang="en-US" sz="4300" spc="-1" strike="noStrike">
              <a:solidFill>
                <a:srgbClr val="000000"/>
              </a:solidFill>
              <a:latin typeface="Times New Roman"/>
            </a:endParaRPr>
          </a:p>
        </p:txBody>
      </p:sp>
      <p:pic>
        <p:nvPicPr>
          <p:cNvPr id="102" name="" descr=""/>
          <p:cNvPicPr/>
          <p:nvPr/>
        </p:nvPicPr>
        <p:blipFill>
          <a:blip r:embed="rId1"/>
          <a:stretch/>
        </p:blipFill>
        <p:spPr>
          <a:xfrm>
            <a:off x="-1440" y="1117440"/>
            <a:ext cx="10051920" cy="6397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Follett MARC Editor</a:t>
            </a:r>
            <a:endParaRPr b="0" lang="en-US" sz="4300" spc="-1" strike="noStrike">
              <a:solidFill>
                <a:srgbClr val="000000"/>
              </a:solidFill>
              <a:latin typeface="Times New Roman"/>
            </a:endParaRPr>
          </a:p>
        </p:txBody>
      </p:sp>
      <p:pic>
        <p:nvPicPr>
          <p:cNvPr id="104" name="" descr=""/>
          <p:cNvPicPr/>
          <p:nvPr/>
        </p:nvPicPr>
        <p:blipFill>
          <a:blip r:embed="rId1"/>
          <a:stretch/>
        </p:blipFill>
        <p:spPr>
          <a:xfrm>
            <a:off x="101520" y="1360440"/>
            <a:ext cx="9980640" cy="6256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5600" y="312480"/>
            <a:ext cx="9669600" cy="1299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Importing</a:t>
            </a:r>
            <a:endParaRPr b="0" lang="en-US" sz="4300" spc="-1" strike="noStrike">
              <a:solidFill>
                <a:srgbClr val="000000"/>
              </a:solidFill>
              <a:latin typeface="Times New Roman"/>
            </a:endParaRPr>
          </a:p>
        </p:txBody>
      </p:sp>
      <p:pic>
        <p:nvPicPr>
          <p:cNvPr id="106" name="" descr=""/>
          <p:cNvPicPr/>
          <p:nvPr/>
        </p:nvPicPr>
        <p:blipFill>
          <a:blip r:embed="rId1"/>
          <a:stretch/>
        </p:blipFill>
        <p:spPr>
          <a:xfrm>
            <a:off x="0" y="1511280"/>
            <a:ext cx="9950400" cy="5991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10182240" cy="7629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2360" y="309600"/>
            <a:ext cx="9655200" cy="1246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Bibliography</a:t>
            </a:r>
            <a:endParaRPr b="0" lang="en-US" sz="4300" spc="-1" strike="noStrike">
              <a:solidFill>
                <a:srgbClr val="000000"/>
              </a:solidFill>
              <a:latin typeface="Times New Roman"/>
            </a:endParaRPr>
          </a:p>
        </p:txBody>
      </p:sp>
      <p:sp>
        <p:nvSpPr>
          <p:cNvPr id="109" name="PlaceHolder 2"/>
          <p:cNvSpPr>
            <a:spLocks noGrp="1"/>
          </p:cNvSpPr>
          <p:nvPr>
            <p:ph/>
          </p:nvPr>
        </p:nvSpPr>
        <p:spPr>
          <a:xfrm>
            <a:off x="252360" y="1827000"/>
            <a:ext cx="9655200" cy="5483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ial"/>
              </a:rPr>
              <a:t>Cartographic materials a manual of interpretation for AACR2, 2002 revision</a:t>
            </a:r>
            <a:r>
              <a:rPr b="0" lang="en-US" sz="2700" spc="-1" strike="noStrike">
                <a:solidFill>
                  <a:srgbClr val="000000"/>
                </a:solidFill>
                <a:latin typeface="Arial"/>
              </a:rPr>
              <a:t>. Chicago: American Library Association, 2003. Pri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wey, Melvil. </a:t>
            </a:r>
            <a:r>
              <a:rPr b="0" i="1" lang="en-US" sz="2700" spc="-1" strike="noStrike">
                <a:solidFill>
                  <a:srgbClr val="000000"/>
                </a:solidFill>
                <a:latin typeface="Arial"/>
              </a:rPr>
              <a:t>Abridged Dewey decimal classification and relative index</a:t>
            </a:r>
            <a:r>
              <a:rPr b="0" lang="en-US" sz="2700" spc="-1" strike="noStrike">
                <a:solidFill>
                  <a:srgbClr val="000000"/>
                </a:solidFill>
                <a:latin typeface="Arial"/>
              </a:rPr>
              <a:t>. Dublin, Ohio: OCLC Online Computer Library Center, Inc., 2004. Pri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wey, Melvil. </a:t>
            </a:r>
            <a:r>
              <a:rPr b="0" i="1" lang="en-US" sz="2700" spc="-1" strike="noStrike">
                <a:solidFill>
                  <a:srgbClr val="000000"/>
                </a:solidFill>
                <a:latin typeface="Arial"/>
              </a:rPr>
              <a:t>Dewey decimal classification and relative index</a:t>
            </a:r>
            <a:r>
              <a:rPr b="0" lang="en-US" sz="2700" spc="-1" strike="noStrike">
                <a:solidFill>
                  <a:srgbClr val="000000"/>
                </a:solidFill>
                <a:latin typeface="Arial"/>
              </a:rPr>
              <a:t>. Dublin, Ohio: OCLC Online Computer Library Center, 2003. Prin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2360" y="309600"/>
            <a:ext cx="9655200" cy="1246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Bibliography (cont'd)</a:t>
            </a:r>
            <a:endParaRPr b="0" lang="en-US" sz="4300" spc="-1" strike="noStrike">
              <a:solidFill>
                <a:srgbClr val="000000"/>
              </a:solidFill>
              <a:latin typeface="Times New Roman"/>
            </a:endParaRPr>
          </a:p>
        </p:txBody>
      </p:sp>
      <p:sp>
        <p:nvSpPr>
          <p:cNvPr id="111" name="PlaceHolder 2"/>
          <p:cNvSpPr>
            <a:spLocks noGrp="1"/>
          </p:cNvSpPr>
          <p:nvPr>
            <p:ph/>
          </p:nvPr>
        </p:nvSpPr>
        <p:spPr>
          <a:xfrm>
            <a:off x="252360" y="1827000"/>
            <a:ext cx="9655200" cy="5483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ichael, Gorman,. </a:t>
            </a:r>
            <a:r>
              <a:rPr b="0" i="1" lang="en-US" sz="2700" spc="-1" strike="noStrike">
                <a:solidFill>
                  <a:srgbClr val="000000"/>
                </a:solidFill>
                <a:latin typeface="Arial"/>
              </a:rPr>
              <a:t>Concise AACR2</a:t>
            </a:r>
            <a:r>
              <a:rPr b="0" lang="en-US" sz="2700" spc="-1" strike="noStrike">
                <a:solidFill>
                  <a:srgbClr val="000000"/>
                </a:solidFill>
                <a:latin typeface="Arial"/>
              </a:rPr>
              <a:t>. Chicago: American Library Association, Canadian Library Association, Chartered Institute of Library and Information Professionals, 2004. Pri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ial"/>
              </a:rPr>
              <a:t>Sears List of Subject Headings</a:t>
            </a:r>
            <a:r>
              <a:rPr b="0" lang="en-US" sz="2700" spc="-1" strike="noStrike">
                <a:solidFill>
                  <a:srgbClr val="000000"/>
                </a:solidFill>
                <a:latin typeface="Arial"/>
              </a:rPr>
              <a:t>. New York: Hw Wilson Co, 2007. Pri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nderstanding MARC Bibliographic: Machine-Readable Cataloging." </a:t>
            </a:r>
            <a:r>
              <a:rPr b="0" i="1" lang="en-US" sz="2700" spc="-1" strike="noStrike">
                <a:solidFill>
                  <a:srgbClr val="000000"/>
                </a:solidFill>
                <a:latin typeface="Arial"/>
              </a:rPr>
              <a:t>Library of Congress Home</a:t>
            </a:r>
            <a:r>
              <a:rPr b="0" lang="en-US" sz="2700" spc="-1" strike="noStrike">
                <a:solidFill>
                  <a:srgbClr val="000000"/>
                </a:solidFill>
                <a:latin typeface="Arial"/>
              </a:rPr>
              <a:t>. 27 Oct. 2009. Web. 21 Oct. 2009. &lt;http://www.loc.gov/marc/umb/&g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You Will Understand:</a:t>
            </a:r>
            <a:endParaRPr b="0" lang="en-US" sz="48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endParaRPr b="0" lang="en-US" sz="48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 What a MARC Record Is</a:t>
            </a:r>
            <a:endParaRPr b="0" lang="en-US" sz="48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 How It Works</a:t>
            </a:r>
            <a:endParaRPr b="0" lang="en-US" sz="48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 Implications of Its Us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4160" y="6703560"/>
            <a:ext cx="9672480" cy="760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 Record</a:t>
            </a:r>
            <a:br>
              <a:rPr sz="3200"/>
            </a:br>
            <a:r>
              <a:rPr b="0" lang="en-US" sz="1900" spc="-1" strike="noStrike">
                <a:solidFill>
                  <a:srgbClr val="000000"/>
                </a:solidFill>
                <a:latin typeface="Arial"/>
              </a:rPr>
              <a:t>Screenshot from </a:t>
            </a:r>
            <a:r>
              <a:rPr b="0" lang="en-US" sz="1900" spc="-1" strike="noStrike" u="sng">
                <a:solidFill>
                  <a:srgbClr val="ccccff"/>
                </a:solidFill>
                <a:uFillTx/>
                <a:latin typeface="Arial"/>
              </a:rPr>
              <a:t>http://www.loc.gov/marc/umb/um11to12.html</a:t>
            </a:r>
            <a:r>
              <a:rPr b="0" lang="en-US" sz="1900" spc="-1" strike="noStrike">
                <a:solidFill>
                  <a:srgbClr val="000000"/>
                </a:solidFill>
                <a:latin typeface="Arial"/>
              </a:rPr>
              <a:t> 10-20-2009</a:t>
            </a:r>
            <a:endParaRPr b="0" lang="en-US" sz="1900" spc="-1" strike="noStrike">
              <a:solidFill>
                <a:srgbClr val="000000"/>
              </a:solidFill>
              <a:latin typeface="Times New Roman"/>
            </a:endParaRPr>
          </a:p>
        </p:txBody>
      </p:sp>
      <p:pic>
        <p:nvPicPr>
          <p:cNvPr id="53" name="" descr=""/>
          <p:cNvPicPr/>
          <p:nvPr/>
        </p:nvPicPr>
        <p:blipFill>
          <a:blip r:embed="rId1"/>
          <a:stretch/>
        </p:blipFill>
        <p:spPr>
          <a:xfrm>
            <a:off x="1816200" y="436680"/>
            <a:ext cx="6546600" cy="611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103320"/>
            <a:ext cx="10172880" cy="776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52000" y="309600"/>
            <a:ext cx="9674280" cy="1246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So What?</a:t>
            </a:r>
            <a:endParaRPr b="0" lang="en-US" sz="4300" spc="-1" strike="noStrike">
              <a:solidFill>
                <a:srgbClr val="000000"/>
              </a:solidFill>
              <a:latin typeface="Times New Roman"/>
            </a:endParaRPr>
          </a:p>
        </p:txBody>
      </p:sp>
      <p:sp>
        <p:nvSpPr>
          <p:cNvPr id="56" name="PlaceHolder 2"/>
          <p:cNvSpPr>
            <a:spLocks noGrp="1"/>
          </p:cNvSpPr>
          <p:nvPr>
            <p:ph/>
          </p:nvPr>
        </p:nvSpPr>
        <p:spPr>
          <a:xfrm>
            <a:off x="254160" y="1829880"/>
            <a:ext cx="9672480" cy="54975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Image downloaded fro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macvarish.typepad.co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0-21-2009</a:t>
            </a:r>
            <a:endParaRPr b="0" lang="en-US" sz="2700" spc="-1" strike="noStrike">
              <a:solidFill>
                <a:srgbClr val="000000"/>
              </a:solidFill>
              <a:latin typeface="Times New Roman"/>
            </a:endParaRPr>
          </a:p>
        </p:txBody>
      </p:sp>
      <p:pic>
        <p:nvPicPr>
          <p:cNvPr id="57" name="" descr=""/>
          <p:cNvPicPr/>
          <p:nvPr/>
        </p:nvPicPr>
        <p:blipFill>
          <a:blip r:embed="rId1"/>
          <a:stretch/>
        </p:blipFill>
        <p:spPr>
          <a:xfrm>
            <a:off x="4775040" y="1192320"/>
            <a:ext cx="5097600" cy="602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5600" y="312480"/>
            <a:ext cx="9669600" cy="1299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Real World Connections</a:t>
            </a:r>
            <a:endParaRPr b="0" lang="en-US" sz="4300" spc="-1" strike="noStrike">
              <a:solidFill>
                <a:srgbClr val="000000"/>
              </a:solidFill>
              <a:latin typeface="Times New Roman"/>
            </a:endParaRPr>
          </a:p>
        </p:txBody>
      </p:sp>
      <p:pic>
        <p:nvPicPr>
          <p:cNvPr id="59" name="" descr=""/>
          <p:cNvPicPr/>
          <p:nvPr/>
        </p:nvPicPr>
        <p:blipFill>
          <a:blip r:embed="rId1"/>
          <a:stretch/>
        </p:blipFill>
        <p:spPr>
          <a:xfrm>
            <a:off x="101520" y="1104840"/>
            <a:ext cx="9912600" cy="5043600"/>
          </a:xfrm>
          <a:prstGeom prst="rect">
            <a:avLst/>
          </a:prstGeom>
          <a:ln w="0">
            <a:noFill/>
          </a:ln>
        </p:spPr>
      </p:pic>
      <p:sp>
        <p:nvSpPr>
          <p:cNvPr id="60" name=""/>
          <p:cNvSpPr/>
          <p:nvPr/>
        </p:nvSpPr>
        <p:spPr>
          <a:xfrm>
            <a:off x="146160" y="6299280"/>
            <a:ext cx="9297720" cy="78156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mage downloaded from</a:t>
            </a:r>
            <a:br>
              <a:rPr sz="2700"/>
            </a:br>
            <a:r>
              <a:rPr b="0" lang="en-US" sz="2700" spc="-1" strike="noStrike" u="sng">
                <a:solidFill>
                  <a:srgbClr val="ccccff"/>
                </a:solidFill>
                <a:uFillTx/>
                <a:latin typeface="Arial"/>
              </a:rPr>
              <a:t>http://researchpark.arc.nasa.gov</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55600" y="312840"/>
            <a:ext cx="9671040" cy="1295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Bibliographic or Holding?</a:t>
            </a:r>
            <a:endParaRPr b="0" lang="en-US" sz="4300" spc="-1" strike="noStrike">
              <a:solidFill>
                <a:srgbClr val="000000"/>
              </a:solidFill>
              <a:latin typeface="Times New Roman"/>
            </a:endParaRPr>
          </a:p>
        </p:txBody>
      </p:sp>
      <p:sp>
        <p:nvSpPr>
          <p:cNvPr id="62" name="PlaceHolder 2"/>
          <p:cNvSpPr>
            <a:spLocks noGrp="1"/>
          </p:cNvSpPr>
          <p:nvPr>
            <p:ph/>
          </p:nvPr>
        </p:nvSpPr>
        <p:spPr>
          <a:xfrm>
            <a:off x="145800" y="1320480"/>
            <a:ext cx="9659880" cy="54846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ARC (or properly MARC21) has FIVE different types of records - we deal with 2 of them primarily as librarians </a:t>
            </a:r>
            <a:endParaRPr b="0" lang="en-US" sz="35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endParaRPr b="0" lang="en-US" sz="35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ARC Bibliographic</a:t>
            </a:r>
            <a:endParaRPr b="0" lang="en-US" sz="35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ARC Holding Record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19000" y="2851200"/>
            <a:ext cx="2856240" cy="173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55640" y="2844720"/>
            <a:ext cx="2841480" cy="15627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RC </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ibliographic</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cord</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itle Record)</a:t>
            </a:r>
            <a:endParaRPr b="0" lang="en-US" sz="2700" spc="-1" strike="noStrike">
              <a:solidFill>
                <a:srgbClr val="000000"/>
              </a:solidFill>
              <a:latin typeface="Times New Roman"/>
            </a:endParaRPr>
          </a:p>
        </p:txBody>
      </p:sp>
      <p:sp>
        <p:nvSpPr>
          <p:cNvPr id="65" name=""/>
          <p:cNvSpPr/>
          <p:nvPr/>
        </p:nvSpPr>
        <p:spPr>
          <a:xfrm>
            <a:off x="4476600" y="1936800"/>
            <a:ext cx="696960" cy="693720"/>
          </a:xfrm>
          <a:custGeom>
            <a:avLst/>
            <a:gdLst/>
            <a:ahLst/>
            <a:rect l="l" t="t" r="r" b="b"/>
            <a:pathLst>
              <a:path w="21600" h="21610">
                <a:moveTo>
                  <a:pt x="0" y="13297"/>
                </a:moveTo>
                <a:lnTo>
                  <a:pt x="8352" y="4944"/>
                </a:lnTo>
                <a:cubicBezTo>
                  <a:pt x="8352" y="4944"/>
                  <a:pt x="4221" y="838"/>
                  <a:pt x="4196" y="789"/>
                </a:cubicBezTo>
                <a:cubicBezTo>
                  <a:pt x="3405" y="0"/>
                  <a:pt x="4992" y="10"/>
                  <a:pt x="4992" y="10"/>
                </a:cubicBezTo>
                <a:lnTo>
                  <a:pt x="21460" y="151"/>
                </a:lnTo>
                <a:cubicBezTo>
                  <a:pt x="21460" y="151"/>
                  <a:pt x="21582" y="16594"/>
                  <a:pt x="21600" y="16611"/>
                </a:cubicBezTo>
                <a:cubicBezTo>
                  <a:pt x="21501" y="18354"/>
                  <a:pt x="20821" y="17412"/>
                  <a:pt x="20821" y="17412"/>
                </a:cubicBezTo>
                <a:lnTo>
                  <a:pt x="16665" y="13257"/>
                </a:lnTo>
                <a:lnTo>
                  <a:pt x="8312" y="21610"/>
                </a:lnTo>
                <a:lnTo>
                  <a:pt x="0" y="1329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578480" y="3359160"/>
            <a:ext cx="817560" cy="770040"/>
          </a:xfrm>
          <a:custGeom>
            <a:avLst/>
            <a:gdLst/>
            <a:ahLst/>
            <a:rect l="l" t="t" r="r" b="b"/>
            <a:pathLst>
              <a:path w="21600" h="22715">
                <a:moveTo>
                  <a:pt x="0" y="6165"/>
                </a:moveTo>
                <a:lnTo>
                  <a:pt x="10427" y="6165"/>
                </a:lnTo>
                <a:cubicBezTo>
                  <a:pt x="10427" y="6165"/>
                  <a:pt x="10412" y="1031"/>
                  <a:pt x="10427" y="985"/>
                </a:cubicBezTo>
                <a:cubicBezTo>
                  <a:pt x="10427" y="0"/>
                  <a:pt x="11410" y="995"/>
                  <a:pt x="11410" y="995"/>
                </a:cubicBezTo>
                <a:lnTo>
                  <a:pt x="21600" y="11345"/>
                </a:lnTo>
                <a:cubicBezTo>
                  <a:pt x="21600" y="11345"/>
                  <a:pt x="11413" y="21669"/>
                  <a:pt x="11413" y="21691"/>
                </a:cubicBezTo>
                <a:cubicBezTo>
                  <a:pt x="10263" y="22715"/>
                  <a:pt x="10427" y="21705"/>
                  <a:pt x="10427" y="21705"/>
                </a:cubicBezTo>
                <a:lnTo>
                  <a:pt x="10427" y="16526"/>
                </a:lnTo>
                <a:lnTo>
                  <a:pt x="0" y="16526"/>
                </a:lnTo>
                <a:lnTo>
                  <a:pt x="0" y="616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4476600" y="4780800"/>
            <a:ext cx="646200" cy="592200"/>
          </a:xfrm>
          <a:custGeom>
            <a:avLst/>
            <a:gdLst/>
            <a:ahLst/>
            <a:rect l="l" t="t" r="r" b="b"/>
            <a:pathLst>
              <a:path w="21600" h="21610">
                <a:moveTo>
                  <a:pt x="0" y="13297"/>
                </a:moveTo>
                <a:lnTo>
                  <a:pt x="8352" y="4944"/>
                </a:lnTo>
                <a:cubicBezTo>
                  <a:pt x="8352" y="4944"/>
                  <a:pt x="4221" y="838"/>
                  <a:pt x="4196" y="789"/>
                </a:cubicBezTo>
                <a:cubicBezTo>
                  <a:pt x="3405" y="0"/>
                  <a:pt x="4992" y="10"/>
                  <a:pt x="4992" y="10"/>
                </a:cubicBezTo>
                <a:lnTo>
                  <a:pt x="21460" y="151"/>
                </a:lnTo>
                <a:cubicBezTo>
                  <a:pt x="21460" y="151"/>
                  <a:pt x="21582" y="16594"/>
                  <a:pt x="21600" y="16611"/>
                </a:cubicBezTo>
                <a:cubicBezTo>
                  <a:pt x="21501" y="18354"/>
                  <a:pt x="20821" y="17412"/>
                  <a:pt x="20821" y="17412"/>
                </a:cubicBezTo>
                <a:lnTo>
                  <a:pt x="16665" y="13257"/>
                </a:lnTo>
                <a:lnTo>
                  <a:pt x="8312" y="21610"/>
                </a:lnTo>
                <a:lnTo>
                  <a:pt x="0" y="1329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632560" y="101520"/>
            <a:ext cx="1990440" cy="1953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RC Holding</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cord</a:t>
            </a:r>
            <a:br>
              <a:rPr sz="2700"/>
            </a:br>
            <a:r>
              <a:rPr b="1" lang="en-US" sz="2700" spc="-1" strike="noStrike">
                <a:solidFill>
                  <a:srgbClr val="000000"/>
                </a:solidFill>
                <a:latin typeface="Arial"/>
              </a:rPr>
              <a:t>(Actual Book Copy)</a:t>
            </a:r>
            <a:endParaRPr b="0" lang="en-US" sz="2700" spc="-1" strike="noStrike">
              <a:solidFill>
                <a:srgbClr val="000000"/>
              </a:solidFill>
              <a:latin typeface="Times New Roman"/>
            </a:endParaRPr>
          </a:p>
        </p:txBody>
      </p:sp>
      <p:sp>
        <p:nvSpPr>
          <p:cNvPr id="69" name=""/>
          <p:cNvSpPr/>
          <p:nvPr/>
        </p:nvSpPr>
        <p:spPr>
          <a:xfrm>
            <a:off x="5835600" y="3251160"/>
            <a:ext cx="199080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RC Holding</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cord</a:t>
            </a:r>
            <a:endParaRPr b="0" lang="en-US" sz="2700" spc="-1" strike="noStrike">
              <a:solidFill>
                <a:srgbClr val="000000"/>
              </a:solidFill>
              <a:latin typeface="Times New Roman"/>
            </a:endParaRPr>
          </a:p>
        </p:txBody>
      </p:sp>
      <p:sp>
        <p:nvSpPr>
          <p:cNvPr id="70" name=""/>
          <p:cNvSpPr/>
          <p:nvPr/>
        </p:nvSpPr>
        <p:spPr>
          <a:xfrm>
            <a:off x="5632560" y="5384880"/>
            <a:ext cx="199044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RC Holding</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cord</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